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type.wav" ContentType="audio/x-wav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3.wmf" ContentType="image/x-wmf"/>
  <Override PartName="/ppt/media/image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3.wmf" ContentType="image/x-wmf"/>
  <Override PartName="/ppt/media/image1.jpeg" ContentType="image/jpeg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A6AEA-C888-4411-A5D9-53D1A36284D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灯片编号占位符 3"/>
          <p:cNvSpPr/>
          <p:nvPr/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6D7CC-BF77-4928-9D1B-47CD000D230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灯片编号占位符 3"/>
          <p:cNvSpPr/>
          <p:nvPr/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3AF7F-F025-4B03-8C7F-3F397E42663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灯片编号占位符 3"/>
          <p:cNvSpPr/>
          <p:nvPr/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2F715-A7EA-4AF1-A605-F45506CFC54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灯片编号占位符 3"/>
          <p:cNvSpPr/>
          <p:nvPr/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7668C-EF71-4902-9BB7-5C57DA18422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7E9B-19AC-4503-9312-41BC80570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3B5A-7701-4C15-A3A5-F24A0150B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7B4B-A10E-4ED4-B597-DBC568F53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C8EB-5E54-4547-8B74-C7372F6E1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2C76-080D-40D5-B709-EEAA3A68A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600B-9FAA-4F07-8EDF-39B3790E7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FDAE-C171-43B4-A124-0997DB70D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F13A-E9C2-4DCF-A156-CDFECF68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8E53-39C1-46C9-A261-BB83B2317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D06E-D0DB-47C1-BE11-73D73BAC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0C56-B317-47ED-8834-0D8D86CE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9902-8137-4489-9DF7-25128C9C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E6D98-28CD-41B3-84AA-8ECA64B0AB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11.xml"/><Relationship Id="rId5" Type="http://schemas.openxmlformats.org/officeDocument/2006/relationships/slide" Target="slide14.xml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3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wmf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4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5.wmf"/><Relationship Id="rId18" Type="http://schemas.openxmlformats.org/officeDocument/2006/relationships/image" Target="../media/image16.wmf"/><Relationship Id="rId19" Type="http://schemas.openxmlformats.org/officeDocument/2006/relationships/image" Target="../media/image16.wmf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"/>
          <p:cNvSpPr/>
          <p:nvPr/>
        </p:nvSpPr>
        <p:spPr>
          <a:xfrm>
            <a:off x="0" y="0"/>
            <a:ext cx="9144000" cy="16286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2981160" y="3238920"/>
            <a:ext cx="290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黑体"/>
                <a:ea typeface="黑体"/>
              </a:rPr>
              <a:t>12.4</a:t>
            </a:r>
            <a:r>
              <a:rPr b="0" lang="zh-CN" sz="4400" spc="-1" strike="noStrike">
                <a:solidFill>
                  <a:srgbClr val="cc0066"/>
                </a:solidFill>
                <a:latin typeface="黑体"/>
                <a:ea typeface="黑体"/>
              </a:rPr>
              <a:t> </a:t>
            </a:r>
            <a:r>
              <a:rPr b="0" lang="zh-CN" sz="4400" spc="-1" strike="noStrike">
                <a:solidFill>
                  <a:srgbClr val="cc0066"/>
                </a:solidFill>
                <a:latin typeface="黑体"/>
                <a:ea typeface="黑体"/>
              </a:rPr>
              <a:t>分式方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0" y="1643040"/>
            <a:ext cx="89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70707"/>
                </a:solidFill>
                <a:latin typeface="隶书"/>
                <a:ea typeface="隶书"/>
              </a:rPr>
              <a:t>第十二章 分式和分式方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7"/>
          <p:cNvSpPr/>
          <p:nvPr/>
        </p:nvSpPr>
        <p:spPr>
          <a:xfrm>
            <a:off x="0" y="6429240"/>
            <a:ext cx="9144000" cy="4287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MH_Text_1"/>
          <p:cNvSpPr/>
          <p:nvPr/>
        </p:nvSpPr>
        <p:spPr>
          <a:xfrm>
            <a:off x="723960" y="5016600"/>
            <a:ext cx="1665360" cy="10555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H_SubTitle_1">
            <a:hlinkClick r:id="rId2" action="ppaction://hlinksldjump"/>
          </p:cNvPr>
          <p:cNvSpPr/>
          <p:nvPr/>
        </p:nvSpPr>
        <p:spPr>
          <a:xfrm>
            <a:off x="72216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MH_Other_1"/>
          <p:cNvSpPr/>
          <p:nvPr/>
        </p:nvSpPr>
        <p:spPr>
          <a:xfrm>
            <a:off x="21495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MH_Text_2"/>
          <p:cNvSpPr/>
          <p:nvPr/>
        </p:nvSpPr>
        <p:spPr>
          <a:xfrm>
            <a:off x="271152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MH_SubTitle_2">
            <a:hlinkClick r:id="rId3" action="ppaction://hlinksldjump"/>
          </p:cNvPr>
          <p:cNvSpPr/>
          <p:nvPr/>
        </p:nvSpPr>
        <p:spPr>
          <a:xfrm>
            <a:off x="271152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讲授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MH_Other_2"/>
          <p:cNvSpPr/>
          <p:nvPr/>
        </p:nvSpPr>
        <p:spPr>
          <a:xfrm>
            <a:off x="2746440" y="545616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MH_Other_3"/>
          <p:cNvSpPr/>
          <p:nvPr/>
        </p:nvSpPr>
        <p:spPr>
          <a:xfrm>
            <a:off x="41799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MH_Text_3"/>
          <p:cNvSpPr/>
          <p:nvPr/>
        </p:nvSpPr>
        <p:spPr>
          <a:xfrm>
            <a:off x="4719600" y="5014800"/>
            <a:ext cx="166680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MH_SubTitle_3">
            <a:hlinkClick r:id="rId4" action="ppaction://hlinksldjump"/>
          </p:cNvPr>
          <p:cNvSpPr/>
          <p:nvPr/>
        </p:nvSpPr>
        <p:spPr>
          <a:xfrm>
            <a:off x="471960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堂练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MH_Other_4"/>
          <p:cNvSpPr/>
          <p:nvPr/>
        </p:nvSpPr>
        <p:spPr>
          <a:xfrm>
            <a:off x="4776840" y="5456160"/>
            <a:ext cx="1699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MH_Other_5"/>
          <p:cNvSpPr/>
          <p:nvPr/>
        </p:nvSpPr>
        <p:spPr>
          <a:xfrm>
            <a:off x="617868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MH_Text_4"/>
          <p:cNvSpPr/>
          <p:nvPr/>
        </p:nvSpPr>
        <p:spPr>
          <a:xfrm>
            <a:off x="672768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MH_SubTitle_4">
            <a:hlinkClick r:id="rId5" action="ppaction://hlinksldjump"/>
          </p:cNvPr>
          <p:cNvSpPr/>
          <p:nvPr/>
        </p:nvSpPr>
        <p:spPr>
          <a:xfrm>
            <a:off x="6727680" y="5288040"/>
            <a:ext cx="1668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MH_Other_6"/>
          <p:cNvSpPr/>
          <p:nvPr/>
        </p:nvSpPr>
        <p:spPr>
          <a:xfrm>
            <a:off x="6777000" y="5456160"/>
            <a:ext cx="16848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MH_Other_7"/>
          <p:cNvGrpSpPr/>
          <p:nvPr/>
        </p:nvGrpSpPr>
        <p:grpSpPr>
          <a:xfrm>
            <a:off x="2085840" y="5411880"/>
            <a:ext cx="890640" cy="266760"/>
            <a:chOff x="2085840" y="5411880"/>
            <a:chExt cx="890640" cy="266760"/>
          </a:xfrm>
        </p:grpSpPr>
        <p:pic>
          <p:nvPicPr>
            <p:cNvPr id="67" name="MH_Other_7" descr=""/>
            <p:cNvPicPr/>
            <p:nvPr/>
          </p:nvPicPr>
          <p:blipFill>
            <a:blip r:embed="rId6"/>
            <a:stretch/>
          </p:blipFill>
          <p:spPr>
            <a:xfrm>
              <a:off x="2085840" y="541188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24"/>
            <p:cNvSpPr/>
            <p:nvPr/>
          </p:nvSpPr>
          <p:spPr>
            <a:xfrm>
              <a:off x="21970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MH_Other_8"/>
          <p:cNvSpPr/>
          <p:nvPr/>
        </p:nvSpPr>
        <p:spPr>
          <a:xfrm>
            <a:off x="21844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MH_Other_9"/>
          <p:cNvGrpSpPr/>
          <p:nvPr/>
        </p:nvGrpSpPr>
        <p:grpSpPr>
          <a:xfrm>
            <a:off x="4116240" y="5411880"/>
            <a:ext cx="888840" cy="266760"/>
            <a:chOff x="4116240" y="5411880"/>
            <a:chExt cx="888840" cy="266760"/>
          </a:xfrm>
        </p:grpSpPr>
        <p:pic>
          <p:nvPicPr>
            <p:cNvPr id="71" name="MH_Other_9" descr=""/>
            <p:cNvPicPr/>
            <p:nvPr/>
          </p:nvPicPr>
          <p:blipFill>
            <a:blip r:embed="rId7"/>
            <a:stretch/>
          </p:blipFill>
          <p:spPr>
            <a:xfrm>
              <a:off x="4116240" y="541188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 Box 28"/>
            <p:cNvSpPr/>
            <p:nvPr/>
          </p:nvSpPr>
          <p:spPr>
            <a:xfrm>
              <a:off x="42274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MH_Other_10"/>
          <p:cNvSpPr/>
          <p:nvPr/>
        </p:nvSpPr>
        <p:spPr>
          <a:xfrm>
            <a:off x="42148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MH_Other_11" descr=""/>
          <p:cNvPicPr/>
          <p:nvPr/>
        </p:nvPicPr>
        <p:blipFill>
          <a:blip r:embed="rId8"/>
          <a:stretch/>
        </p:blipFill>
        <p:spPr>
          <a:xfrm>
            <a:off x="6114960" y="541188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1"/>
          <p:cNvSpPr/>
          <p:nvPr/>
        </p:nvSpPr>
        <p:spPr>
          <a:xfrm>
            <a:off x="6226200" y="551340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MH_Other_12"/>
          <p:cNvSpPr/>
          <p:nvPr/>
        </p:nvSpPr>
        <p:spPr>
          <a:xfrm>
            <a:off x="621360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3"/>
          <p:cNvSpPr/>
          <p:nvPr/>
        </p:nvSpPr>
        <p:spPr>
          <a:xfrm>
            <a:off x="1079640" y="1236600"/>
            <a:ext cx="184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分式方程的增根</a:t>
            </a: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539640" y="1812960"/>
            <a:ext cx="81234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在去分母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将分式方程转化为整式方程的过程中出现的不适合于原方程的根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3"/>
          <p:cNvSpPr/>
          <p:nvPr/>
        </p:nvSpPr>
        <p:spPr>
          <a:xfrm>
            <a:off x="1181880" y="2892600"/>
            <a:ext cx="25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分式方程产生增根的原因</a:t>
            </a: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466560" y="3468600"/>
            <a:ext cx="81248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分式方程两边同乘以一个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零因式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后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所得的根是整式方程的根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而不是分式方程的根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当堂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组合 3"/>
          <p:cNvGrpSpPr/>
          <p:nvPr/>
        </p:nvGrpSpPr>
        <p:grpSpPr>
          <a:xfrm>
            <a:off x="466560" y="765000"/>
            <a:ext cx="8213760" cy="819360"/>
            <a:chOff x="466560" y="765000"/>
            <a:chExt cx="8213760" cy="819360"/>
          </a:xfrm>
        </p:grpSpPr>
        <p:sp>
          <p:nvSpPr>
            <p:cNvPr id="184" name="文本框 1"/>
            <p:cNvSpPr/>
            <p:nvPr/>
          </p:nvSpPr>
          <p:spPr>
            <a:xfrm>
              <a:off x="466560" y="908280"/>
              <a:ext cx="821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.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解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方程：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     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85" name="对象 5121"/>
            <p:cNvGraphicFramePr/>
            <p:nvPr/>
          </p:nvGraphicFramePr>
          <p:xfrm>
            <a:off x="2121840" y="765000"/>
            <a:ext cx="1375200" cy="8193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86" name="对象 5121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121840" y="765000"/>
                      <a:ext cx="1375200" cy="81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7" name="Text Box 6"/>
          <p:cNvSpPr/>
          <p:nvPr/>
        </p:nvSpPr>
        <p:spPr>
          <a:xfrm>
            <a:off x="466560" y="1628640"/>
            <a:ext cx="6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5123"/>
          <p:cNvSpPr/>
          <p:nvPr/>
        </p:nvSpPr>
        <p:spPr>
          <a:xfrm>
            <a:off x="1549440" y="1801800"/>
            <a:ext cx="48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方程两边都乘以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–2) ,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得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5124"/>
          <p:cNvSpPr/>
          <p:nvPr/>
        </p:nvSpPr>
        <p:spPr>
          <a:xfrm>
            <a:off x="1368360" y="234144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  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= 3(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– 2 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5125"/>
          <p:cNvSpPr/>
          <p:nvPr/>
        </p:nvSpPr>
        <p:spPr>
          <a:xfrm>
            <a:off x="1116000" y="32130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这个方程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,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得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: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=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5126"/>
          <p:cNvSpPr/>
          <p:nvPr/>
        </p:nvSpPr>
        <p:spPr>
          <a:xfrm>
            <a:off x="828720" y="3916440"/>
            <a:ext cx="5410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检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: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将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= 3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代入原方程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得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左边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 1 =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右边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5127"/>
          <p:cNvSpPr/>
          <p:nvPr/>
        </p:nvSpPr>
        <p:spPr>
          <a:xfrm>
            <a:off x="963720" y="500364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所以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: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3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原方程的根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文本框 1"/>
          <p:cNvSpPr/>
          <p:nvPr/>
        </p:nvSpPr>
        <p:spPr>
          <a:xfrm>
            <a:off x="466560" y="907920"/>
            <a:ext cx="821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方程：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对象 10242"/>
          <p:cNvGraphicFramePr/>
          <p:nvPr/>
        </p:nvGraphicFramePr>
        <p:xfrm>
          <a:off x="2050920" y="692280"/>
          <a:ext cx="2532240" cy="857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5" name="对象 1024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0920" y="692280"/>
                    <a:ext cx="253224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Text Box 6"/>
          <p:cNvSpPr/>
          <p:nvPr/>
        </p:nvSpPr>
        <p:spPr>
          <a:xfrm>
            <a:off x="682560" y="1844640"/>
            <a:ext cx="6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组合 8"/>
          <p:cNvGrpSpPr/>
          <p:nvPr/>
        </p:nvGrpSpPr>
        <p:grpSpPr>
          <a:xfrm>
            <a:off x="1763640" y="1989000"/>
            <a:ext cx="5838840" cy="1922760"/>
            <a:chOff x="1763640" y="1989000"/>
            <a:chExt cx="5838840" cy="1922760"/>
          </a:xfrm>
        </p:grpSpPr>
        <p:sp>
          <p:nvSpPr>
            <p:cNvPr id="198" name="文本框 10241"/>
            <p:cNvSpPr/>
            <p:nvPr/>
          </p:nvSpPr>
          <p:spPr>
            <a:xfrm>
              <a:off x="1763640" y="1989000"/>
              <a:ext cx="583884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</a:t>
              </a: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方程两边都乘以         </a:t>
              </a:r>
              <a:r>
                <a:rPr b="0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,</a:t>
              </a: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得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      </a:t>
              </a: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解这个方程，得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99" name="对象 1"/>
            <p:cNvGraphicFramePr/>
            <p:nvPr/>
          </p:nvGraphicFramePr>
          <p:xfrm>
            <a:off x="4499640" y="1989000"/>
            <a:ext cx="753480" cy="4885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00" name="对象 1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499640" y="1989000"/>
                      <a:ext cx="753480" cy="48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1" name="对象 5"/>
            <p:cNvGraphicFramePr/>
            <p:nvPr/>
          </p:nvGraphicFramePr>
          <p:xfrm>
            <a:off x="5219640" y="2708640"/>
            <a:ext cx="1051200" cy="4820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02" name="对象 5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219640" y="2708640"/>
                      <a:ext cx="1051200" cy="48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03" name="文本框 7"/>
          <p:cNvSpPr/>
          <p:nvPr/>
        </p:nvSpPr>
        <p:spPr>
          <a:xfrm>
            <a:off x="395280" y="3502080"/>
            <a:ext cx="81932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检验：将 </a:t>
            </a:r>
            <a:r>
              <a:rPr b="0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= 5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代入原方程，方程的分母为零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所以，</a:t>
            </a:r>
            <a:r>
              <a:rPr b="0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= 5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方程的增根，原方程无实根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组合 1"/>
          <p:cNvGrpSpPr/>
          <p:nvPr/>
        </p:nvGrpSpPr>
        <p:grpSpPr>
          <a:xfrm>
            <a:off x="466560" y="692280"/>
            <a:ext cx="8213760" cy="1041480"/>
            <a:chOff x="466560" y="692280"/>
            <a:chExt cx="8213760" cy="1041480"/>
          </a:xfrm>
        </p:grpSpPr>
        <p:sp>
          <p:nvSpPr>
            <p:cNvPr id="205" name="文本框 1"/>
            <p:cNvSpPr/>
            <p:nvPr/>
          </p:nvSpPr>
          <p:spPr>
            <a:xfrm>
              <a:off x="466560" y="908280"/>
              <a:ext cx="8213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.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当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m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为何值时，方程                  会产生增根</a:t>
              </a: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.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     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06" name="对象 11267"/>
            <p:cNvGraphicFramePr/>
            <p:nvPr/>
          </p:nvGraphicFramePr>
          <p:xfrm>
            <a:off x="3778560" y="692280"/>
            <a:ext cx="2464200" cy="946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07" name="对象 11267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778560" y="692280"/>
                      <a:ext cx="2464200" cy="94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08" name="Text Box 6"/>
          <p:cNvSpPr/>
          <p:nvPr/>
        </p:nvSpPr>
        <p:spPr>
          <a:xfrm>
            <a:off x="466560" y="1628640"/>
            <a:ext cx="6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1403280" y="1773360"/>
            <a:ext cx="69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方程两边同乘以最简公分母（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3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，    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482920" y="2422440"/>
            <a:ext cx="460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2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3)=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2627280" y="30002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-2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+6=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1546200" y="3503520"/>
            <a:ext cx="431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方程，得   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6-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3"/>
          <p:cNvSpPr/>
          <p:nvPr/>
        </p:nvSpPr>
        <p:spPr>
          <a:xfrm>
            <a:off x="1403280" y="4151160"/>
            <a:ext cx="57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因为原分式方程有增根，所以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4"/>
          <p:cNvSpPr/>
          <p:nvPr/>
        </p:nvSpPr>
        <p:spPr>
          <a:xfrm>
            <a:off x="1473120" y="487044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得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6-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3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即   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10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3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3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矩形 80"/>
          <p:cNvSpPr/>
          <p:nvPr/>
        </p:nvSpPr>
        <p:spPr>
          <a:xfrm>
            <a:off x="2080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3"/>
          <p:cNvSpPr/>
          <p:nvPr/>
        </p:nvSpPr>
        <p:spPr>
          <a:xfrm>
            <a:off x="1073880" y="620640"/>
            <a:ext cx="184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分式方程的概念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898560" y="119700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母中含有未知数的方程叫做分式方程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3"/>
          <p:cNvSpPr/>
          <p:nvPr/>
        </p:nvSpPr>
        <p:spPr>
          <a:xfrm>
            <a:off x="1206360" y="1701720"/>
            <a:ext cx="20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解分式方程的步骤</a:t>
            </a: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682560" y="3141720"/>
            <a:ext cx="81248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解这个整式方程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682560" y="2205000"/>
            <a:ext cx="81248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去分母，在方程的两边同时乘以最简公分母，把分式方法转化为整式方程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682560" y="3573360"/>
            <a:ext cx="81248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检验，把一元一次方程的根代入所乘的最简公分母中，看结果是否为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682560" y="4508640"/>
            <a:ext cx="81248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写出是原分式方程的解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3"/>
          <p:cNvSpPr/>
          <p:nvPr/>
        </p:nvSpPr>
        <p:spPr>
          <a:xfrm>
            <a:off x="1073880" y="5013360"/>
            <a:ext cx="184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分式方程的增根</a:t>
            </a: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682560" y="5518080"/>
            <a:ext cx="81248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去分母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将分式方程转化为整式方程的过程中出现的不适合于原方程的根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Box 16"/>
          <p:cNvSpPr/>
          <p:nvPr/>
        </p:nvSpPr>
        <p:spPr>
          <a:xfrm>
            <a:off x="1000080" y="242892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见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练优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本课时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4103"/>
          <p:cNvSpPr/>
          <p:nvPr/>
        </p:nvSpPr>
        <p:spPr>
          <a:xfrm>
            <a:off x="7128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后作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9"/>
          <p:cNvGrpSpPr/>
          <p:nvPr/>
        </p:nvGrpSpPr>
        <p:grpSpPr>
          <a:xfrm>
            <a:off x="2506680" y="1214280"/>
            <a:ext cx="2708280" cy="633600"/>
            <a:chOff x="2506680" y="1214280"/>
            <a:chExt cx="2708280" cy="633600"/>
          </a:xfrm>
        </p:grpSpPr>
        <p:grpSp>
          <p:nvGrpSpPr>
            <p:cNvPr id="78" name="Group 10"/>
            <p:cNvGrpSpPr/>
            <p:nvPr/>
          </p:nvGrpSpPr>
          <p:grpSpPr>
            <a:xfrm>
              <a:off x="2506680" y="1428120"/>
              <a:ext cx="221760" cy="215640"/>
              <a:chOff x="2506680" y="1428120"/>
              <a:chExt cx="221760" cy="215640"/>
            </a:xfrm>
          </p:grpSpPr>
          <p:sp>
            <p:nvSpPr>
              <p:cNvPr id="79" name="MH_Other_9"/>
              <p:cNvSpPr/>
              <p:nvPr/>
            </p:nvSpPr>
            <p:spPr>
              <a:xfrm>
                <a:off x="2506680" y="1428120"/>
                <a:ext cx="221760" cy="21564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MH_Other_10"/>
              <p:cNvSpPr/>
              <p:nvPr/>
            </p:nvSpPr>
            <p:spPr>
              <a:xfrm>
                <a:off x="2557440" y="147564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MH_SubTitle_4"/>
            <p:cNvSpPr/>
            <p:nvPr/>
          </p:nvSpPr>
          <p:spPr>
            <a:xfrm>
              <a:off x="3285720" y="1214280"/>
              <a:ext cx="192924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习目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矩形 11"/>
          <p:cNvSpPr/>
          <p:nvPr/>
        </p:nvSpPr>
        <p:spPr>
          <a:xfrm>
            <a:off x="539640" y="213372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理解分式方程的意义，掌握解分式方程的基本思路和解法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难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理解分式方程无解及出现增根的原因，掌握分式方程验根的方法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(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重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圆角矩形 31"/>
          <p:cNvSpPr/>
          <p:nvPr/>
        </p:nvSpPr>
        <p:spPr>
          <a:xfrm>
            <a:off x="428760" y="979560"/>
            <a:ext cx="1428480" cy="428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复习引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611280" y="206064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什么叫一元一次方程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6"/>
          <p:cNvGrpSpPr/>
          <p:nvPr/>
        </p:nvGrpSpPr>
        <p:grpSpPr>
          <a:xfrm>
            <a:off x="682560" y="3141720"/>
            <a:ext cx="5554800" cy="1666440"/>
            <a:chOff x="682560" y="3141720"/>
            <a:chExt cx="5554800" cy="1666440"/>
          </a:xfrm>
        </p:grpSpPr>
        <p:sp>
          <p:nvSpPr>
            <p:cNvPr id="87" name="Text Box 7"/>
            <p:cNvSpPr/>
            <p:nvPr/>
          </p:nvSpPr>
          <p:spPr>
            <a:xfrm>
              <a:off x="682560" y="3141720"/>
              <a:ext cx="555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. 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下列方程哪些是一元一次方程</a:t>
              </a: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8" name="对象 4100"/>
            <p:cNvGraphicFramePr/>
            <p:nvPr/>
          </p:nvGraphicFramePr>
          <p:xfrm>
            <a:off x="1064880" y="3727440"/>
            <a:ext cx="1617840" cy="389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9" name="对象 4100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064880" y="3727440"/>
                      <a:ext cx="1617840" cy="38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0" name="对象 4101"/>
            <p:cNvGraphicFramePr/>
            <p:nvPr/>
          </p:nvGraphicFramePr>
          <p:xfrm>
            <a:off x="3780000" y="3717000"/>
            <a:ext cx="1506240" cy="3405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1" name="对象 4101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780000" y="3717000"/>
                      <a:ext cx="1506240" cy="34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2" name="对象 4102"/>
            <p:cNvGraphicFramePr/>
            <p:nvPr/>
          </p:nvGraphicFramePr>
          <p:xfrm>
            <a:off x="1187280" y="4436280"/>
            <a:ext cx="1416600" cy="3718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93" name="对象 4102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187280" y="4436280"/>
                      <a:ext cx="1416600" cy="37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4" name="对象 4103"/>
            <p:cNvGraphicFramePr/>
            <p:nvPr/>
          </p:nvGraphicFramePr>
          <p:xfrm>
            <a:off x="3851640" y="4221360"/>
            <a:ext cx="1559520" cy="5817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95" name="对象 4103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3851640" y="4221360"/>
                      <a:ext cx="1559520" cy="58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cover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80"/>
          <p:cNvSpPr/>
          <p:nvPr/>
        </p:nvSpPr>
        <p:spPr>
          <a:xfrm>
            <a:off x="285120" y="71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组合 6147"/>
          <p:cNvGrpSpPr/>
          <p:nvPr/>
        </p:nvGrpSpPr>
        <p:grpSpPr>
          <a:xfrm>
            <a:off x="325440" y="246240"/>
            <a:ext cx="3298680" cy="808200"/>
            <a:chOff x="325440" y="246240"/>
            <a:chExt cx="3298680" cy="808200"/>
          </a:xfrm>
        </p:grpSpPr>
        <p:sp>
          <p:nvSpPr>
            <p:cNvPr id="98" name="矩形 7"/>
            <p:cNvSpPr/>
            <p:nvPr/>
          </p:nvSpPr>
          <p:spPr>
            <a:xfrm>
              <a:off x="885240" y="246240"/>
              <a:ext cx="167256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任意多边形 16"/>
            <p:cNvSpPr/>
            <p:nvPr/>
          </p:nvSpPr>
          <p:spPr>
            <a:xfrm>
              <a:off x="325440" y="534600"/>
              <a:ext cx="52416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文本框 6151"/>
            <p:cNvSpPr/>
            <p:nvPr/>
          </p:nvSpPr>
          <p:spPr>
            <a:xfrm>
              <a:off x="1523160" y="520200"/>
              <a:ext cx="210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分式方程的相关概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文本框 6152"/>
            <p:cNvSpPr/>
            <p:nvPr/>
          </p:nvSpPr>
          <p:spPr>
            <a:xfrm>
              <a:off x="325440" y="533880"/>
              <a:ext cx="55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be0e3"/>
                  </a:solidFill>
                  <a:latin typeface="Arial"/>
                  <a:ea typeface="微软雅黑"/>
                </a:rPr>
                <a:t>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Box 3"/>
          <p:cNvSpPr/>
          <p:nvPr/>
        </p:nvSpPr>
        <p:spPr>
          <a:xfrm>
            <a:off x="250920" y="1052640"/>
            <a:ext cx="830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问题 </a:t>
            </a:r>
            <a:r>
              <a:rPr b="1" lang="en-US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艘轮船在静水中的最大航速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千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它沿江  以最大航速顺流航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千米所用时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与以最大航速逆流航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6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千米所用时间相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江水的流速为多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?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324000" y="2781360"/>
            <a:ext cx="726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解：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设江水的流速为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v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千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时，根据题意，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对象 5123"/>
          <p:cNvGraphicFramePr/>
          <p:nvPr/>
        </p:nvGraphicFramePr>
        <p:xfrm>
          <a:off x="1835280" y="3645000"/>
          <a:ext cx="2476440" cy="974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对象 512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5280" y="3645000"/>
                    <a:ext cx="2476440" cy="97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AutoShape 7"/>
          <p:cNvSpPr/>
          <p:nvPr/>
        </p:nvSpPr>
        <p:spPr>
          <a:xfrm>
            <a:off x="5075280" y="3789360"/>
            <a:ext cx="3887640" cy="1208160"/>
          </a:xfrm>
          <a:prstGeom prst="wedgeEllipseCallout">
            <a:avLst>
              <a:gd name="adj1" fmla="val -68277"/>
              <a:gd name="adj2" fmla="val -2894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母中含未知数的方程叫做分式方程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3"/>
          <p:cNvSpPr/>
          <p:nvPr/>
        </p:nvSpPr>
        <p:spPr>
          <a:xfrm>
            <a:off x="1145160" y="909720"/>
            <a:ext cx="184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分式方程的概念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6"/>
          <p:cNvSpPr/>
          <p:nvPr/>
        </p:nvSpPr>
        <p:spPr>
          <a:xfrm>
            <a:off x="1108800" y="242100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分式方程的特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1042920" y="170172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分母中含有未知数的方程叫做分式方程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1042920" y="3068640"/>
            <a:ext cx="5688000" cy="19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）是等式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）方程中含有分母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）分母中含有未知数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对象 7169"/>
          <p:cNvGraphicFramePr/>
          <p:nvPr/>
        </p:nvGraphicFramePr>
        <p:xfrm>
          <a:off x="892080" y="2717640"/>
          <a:ext cx="175428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对象 7169" descr="水滴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92080" y="2717640"/>
                    <a:ext cx="175428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对象 7170"/>
          <p:cNvGraphicFramePr/>
          <p:nvPr/>
        </p:nvGraphicFramePr>
        <p:xfrm>
          <a:off x="1044720" y="1422360"/>
          <a:ext cx="1584360" cy="990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5" name="对象 7170" descr="水滴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44720" y="1422360"/>
                    <a:ext cx="158436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对象 7171"/>
          <p:cNvGraphicFramePr/>
          <p:nvPr/>
        </p:nvGraphicFramePr>
        <p:xfrm>
          <a:off x="892080" y="3936960"/>
          <a:ext cx="1654200" cy="1066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7" name="对象 7171" descr="水滴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92080" y="3936960"/>
                    <a:ext cx="16542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对象 7172"/>
          <p:cNvGraphicFramePr/>
          <p:nvPr/>
        </p:nvGraphicFramePr>
        <p:xfrm>
          <a:off x="3406680" y="2717640"/>
          <a:ext cx="1987560" cy="1065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9" name="对象 7172" descr="水滴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06680" y="2717640"/>
                    <a:ext cx="1987560" cy="10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对象 7173"/>
          <p:cNvGraphicFramePr/>
          <p:nvPr/>
        </p:nvGraphicFramePr>
        <p:xfrm>
          <a:off x="3059280" y="3933720"/>
          <a:ext cx="2376360" cy="1035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1" name="对象 717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059280" y="3933720"/>
                    <a:ext cx="237636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对象 7174"/>
          <p:cNvGraphicFramePr/>
          <p:nvPr/>
        </p:nvGraphicFramePr>
        <p:xfrm>
          <a:off x="898560" y="5086440"/>
          <a:ext cx="1820880" cy="11761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23" name="对象 7174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898560" y="5086440"/>
                    <a:ext cx="1820880" cy="11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对象 7175"/>
          <p:cNvGraphicFramePr/>
          <p:nvPr/>
        </p:nvGraphicFramePr>
        <p:xfrm>
          <a:off x="3178080" y="5154480"/>
          <a:ext cx="2808360" cy="10130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25" name="对象 7175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178080" y="5154480"/>
                    <a:ext cx="2808360" cy="10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对象 7176"/>
          <p:cNvGraphicFramePr/>
          <p:nvPr/>
        </p:nvGraphicFramePr>
        <p:xfrm>
          <a:off x="3419640" y="1486080"/>
          <a:ext cx="2822400" cy="9889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27" name="对象 7176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419640" y="1486080"/>
                    <a:ext cx="2822400" cy="9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Text Box 13"/>
          <p:cNvSpPr/>
          <p:nvPr/>
        </p:nvSpPr>
        <p:spPr>
          <a:xfrm>
            <a:off x="684360" y="90792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下列方程中，哪些是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分式方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？哪些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整式方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14"/>
          <p:cNvGrpSpPr/>
          <p:nvPr/>
        </p:nvGrpSpPr>
        <p:grpSpPr>
          <a:xfrm>
            <a:off x="5845320" y="1270080"/>
            <a:ext cx="2895480" cy="2514600"/>
            <a:chOff x="5845320" y="1270080"/>
            <a:chExt cx="2895480" cy="2514600"/>
          </a:xfrm>
        </p:grpSpPr>
        <p:pic>
          <p:nvPicPr>
            <p:cNvPr id="130" name="Picture 15" descr="ri3hqoey[1]"/>
            <p:cNvPicPr/>
            <p:nvPr/>
          </p:nvPicPr>
          <p:blipFill>
            <a:blip r:embed="rId18"/>
            <a:stretch/>
          </p:blipFill>
          <p:spPr>
            <a:xfrm>
              <a:off x="5845320" y="1270080"/>
              <a:ext cx="289548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16"/>
            <p:cNvSpPr/>
            <p:nvPr/>
          </p:nvSpPr>
          <p:spPr>
            <a:xfrm>
              <a:off x="6531120" y="203220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整式方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17"/>
          <p:cNvGrpSpPr/>
          <p:nvPr/>
        </p:nvGrpSpPr>
        <p:grpSpPr>
          <a:xfrm>
            <a:off x="5940360" y="3860640"/>
            <a:ext cx="2819520" cy="2666880"/>
            <a:chOff x="5940360" y="3860640"/>
            <a:chExt cx="2819520" cy="2666880"/>
          </a:xfrm>
        </p:grpSpPr>
        <p:pic>
          <p:nvPicPr>
            <p:cNvPr id="133" name="Picture 18" descr="ri3hqoey[1]"/>
            <p:cNvPicPr/>
            <p:nvPr/>
          </p:nvPicPr>
          <p:blipFill>
            <a:blip r:embed="rId19"/>
            <a:stretch/>
          </p:blipFill>
          <p:spPr>
            <a:xfrm>
              <a:off x="5940360" y="3860640"/>
              <a:ext cx="28195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19"/>
            <p:cNvSpPr/>
            <p:nvPr/>
          </p:nvSpPr>
          <p:spPr>
            <a:xfrm>
              <a:off x="6626160" y="469872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分式方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文本框 1"/>
          <p:cNvSpPr/>
          <p:nvPr/>
        </p:nvSpPr>
        <p:spPr>
          <a:xfrm>
            <a:off x="1061280" y="476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练一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5.55556E-006 L 0.59167 0.12221 E">
                                      <p:cBhvr>
                                        <p:cTn id="121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11111E-006 L 0.31667 0.53334 E">
                                      <p:cBhvr>
                                        <p:cTn id="125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4444E-006 L 0.61666 0.34444 E">
                                      <p:cBhvr>
                                        <p:cTn id="129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22222E-006 L 0.35834 0.36667 E">
                                      <p:cBhvr>
                                        <p:cTn id="133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11111E-006 L 0.60834 -0.24444 E">
                                      <p:cBhvr>
                                        <p:cTn id="137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33333E-006 L 0.325 -0.25556 E">
                                      <p:cBhvr>
                                        <p:cTn id="141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7.40741E-007 L 0.63334 -0.01111 E">
                                      <p:cBhvr>
                                        <p:cTn id="145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85185E-006 L 0.325 -0.04445 E">
                                      <p:cBhvr>
                                        <p:cTn id="149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组合 6147"/>
          <p:cNvGrpSpPr/>
          <p:nvPr/>
        </p:nvGrpSpPr>
        <p:grpSpPr>
          <a:xfrm>
            <a:off x="325440" y="496800"/>
            <a:ext cx="2729880" cy="808200"/>
            <a:chOff x="325440" y="496800"/>
            <a:chExt cx="2729880" cy="808200"/>
          </a:xfrm>
        </p:grpSpPr>
        <p:sp>
          <p:nvSpPr>
            <p:cNvPr id="137" name="矩形 7"/>
            <p:cNvSpPr/>
            <p:nvPr/>
          </p:nvSpPr>
          <p:spPr>
            <a:xfrm>
              <a:off x="885240" y="496800"/>
              <a:ext cx="167292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 16"/>
            <p:cNvSpPr/>
            <p:nvPr/>
          </p:nvSpPr>
          <p:spPr>
            <a:xfrm>
              <a:off x="325440" y="785160"/>
              <a:ext cx="52452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矩形 17"/>
            <p:cNvSpPr/>
            <p:nvPr/>
          </p:nvSpPr>
          <p:spPr>
            <a:xfrm>
              <a:off x="687240" y="73440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文本框 6151"/>
            <p:cNvSpPr/>
            <p:nvPr/>
          </p:nvSpPr>
          <p:spPr>
            <a:xfrm>
              <a:off x="1380960" y="77076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分式方程的解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文本框 6152"/>
            <p:cNvSpPr/>
            <p:nvPr/>
          </p:nvSpPr>
          <p:spPr>
            <a:xfrm>
              <a:off x="325440" y="784440"/>
              <a:ext cx="55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be0e3"/>
                  </a:solidFill>
                  <a:latin typeface="Arial"/>
                  <a:ea typeface="微软雅黑"/>
                </a:rPr>
                <a:t>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Rectangle 22"/>
          <p:cNvSpPr/>
          <p:nvPr/>
        </p:nvSpPr>
        <p:spPr>
          <a:xfrm>
            <a:off x="324000" y="144792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想一想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下面我们一起研究下怎么样来解分式方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2627280" y="411156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解得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826920" y="310356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方程两边同乘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-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得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对象 8196"/>
          <p:cNvGraphicFramePr/>
          <p:nvPr/>
        </p:nvGraphicFramePr>
        <p:xfrm>
          <a:off x="2338560" y="3608280"/>
          <a:ext cx="3605040" cy="482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对象 819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38560" y="3608280"/>
                    <a:ext cx="360504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Text Box 11"/>
          <p:cNvSpPr/>
          <p:nvPr/>
        </p:nvSpPr>
        <p:spPr>
          <a:xfrm>
            <a:off x="324000" y="4471920"/>
            <a:ext cx="876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检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：将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代入分式方程，左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4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右边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∴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原分式方程的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对象 8200"/>
              <p:cNvSpPr txBox="1"/>
              <p:nvPr/>
            </p:nvSpPr>
            <p:spPr>
              <a:xfrm>
                <a:off x="3564000" y="2168640"/>
                <a:ext cx="208764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+</m:t>
                        </m:r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−</m:t>
                        </m:r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49" name="对象 8197"/>
          <p:cNvGraphicFramePr/>
          <p:nvPr/>
        </p:nvGraphicFramePr>
        <p:xfrm>
          <a:off x="3780000" y="4111560"/>
          <a:ext cx="863280" cy="417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0" name="对象 819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780000" y="4111560"/>
                    <a:ext cx="86328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8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0" y="6713640"/>
            <a:ext cx="4859280" cy="360"/>
            <a:chOff x="0" y="6713640"/>
            <a:chExt cx="4859280" cy="360"/>
          </a:xfrm>
        </p:grpSpPr>
        <p:sp>
          <p:nvSpPr>
            <p:cNvPr id="152" name="Line 121"/>
            <p:cNvSpPr/>
            <p:nvPr/>
          </p:nvSpPr>
          <p:spPr>
            <a:xfrm>
              <a:off x="0" y="6713640"/>
              <a:ext cx="485928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0" y="6713640"/>
              <a:ext cx="4859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TextBox 3"/>
          <p:cNvSpPr/>
          <p:nvPr/>
        </p:nvSpPr>
        <p:spPr>
          <a:xfrm>
            <a:off x="1017720" y="836640"/>
            <a:ext cx="16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分式方程的解</a:t>
            </a: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539640" y="1484280"/>
            <a:ext cx="81234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使得分式方程等号两端相等的未知数的值叫做分式方程的解（也叫做分式方程的根）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3"/>
          <p:cNvSpPr/>
          <p:nvPr/>
        </p:nvSpPr>
        <p:spPr>
          <a:xfrm>
            <a:off x="1141200" y="2637000"/>
            <a:ext cx="20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解分式方程的步骤</a:t>
            </a: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682560" y="4148280"/>
            <a:ext cx="81248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）解这个整式方程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738360" y="3195720"/>
            <a:ext cx="81230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）去分母，在方程的两边同时乘以最简公分母，把分式方法转化为整式方程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666720" y="4633920"/>
            <a:ext cx="81234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）检验，把一元一次方程的根代入所乘的最简公分母中，看结果是否为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0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682560" y="5589720"/>
            <a:ext cx="81248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）写出是原分式方程的解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3"/>
          <p:cNvSpPr/>
          <p:nvPr/>
        </p:nvSpPr>
        <p:spPr>
          <a:xfrm>
            <a:off x="250920" y="1409760"/>
            <a:ext cx="83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问题 </a:t>
            </a:r>
            <a:r>
              <a:rPr b="1" lang="en-US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解分式方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对象 9219"/>
          <p:cNvGraphicFramePr/>
          <p:nvPr/>
        </p:nvGraphicFramePr>
        <p:xfrm>
          <a:off x="3203640" y="1338120"/>
          <a:ext cx="2705040" cy="838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3" name="对象 921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3640" y="1338120"/>
                    <a:ext cx="270504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Text Box 7"/>
          <p:cNvSpPr/>
          <p:nvPr/>
        </p:nvSpPr>
        <p:spPr>
          <a:xfrm>
            <a:off x="1992600" y="2560680"/>
            <a:ext cx="46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方程两边同乘以最简公分母（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（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，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2939760" y="3209760"/>
            <a:ext cx="139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5=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1668600" y="3824280"/>
            <a:ext cx="12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解得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0"/>
          <p:cNvSpPr/>
          <p:nvPr/>
        </p:nvSpPr>
        <p:spPr>
          <a:xfrm>
            <a:off x="3203280" y="3857760"/>
            <a:ext cx="73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1"/>
          <p:cNvSpPr/>
          <p:nvPr/>
        </p:nvSpPr>
        <p:spPr>
          <a:xfrm>
            <a:off x="1039680" y="4578480"/>
            <a:ext cx="813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检验：将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代入原分式方程，发现这时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2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值都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相应分式无意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所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不是原分式方程的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2"/>
          <p:cNvSpPr/>
          <p:nvPr/>
        </p:nvSpPr>
        <p:spPr>
          <a:xfrm>
            <a:off x="2407320" y="5875200"/>
            <a:ext cx="16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原分式方程无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3"/>
          <p:cNvSpPr/>
          <p:nvPr/>
        </p:nvSpPr>
        <p:spPr>
          <a:xfrm>
            <a:off x="5365800" y="3355920"/>
            <a:ext cx="2446200" cy="1150920"/>
          </a:xfrm>
          <a:prstGeom prst="wedgeEllipseCallout">
            <a:avLst>
              <a:gd name="adj1" fmla="val -65129"/>
              <a:gd name="adj2" fmla="val 4568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为什么会产生增根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395280" y="2419200"/>
            <a:ext cx="6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组合 6147"/>
          <p:cNvGrpSpPr/>
          <p:nvPr/>
        </p:nvGrpSpPr>
        <p:grpSpPr>
          <a:xfrm>
            <a:off x="325440" y="246240"/>
            <a:ext cx="3763800" cy="822960"/>
            <a:chOff x="325440" y="246240"/>
            <a:chExt cx="3763800" cy="822960"/>
          </a:xfrm>
        </p:grpSpPr>
        <p:sp>
          <p:nvSpPr>
            <p:cNvPr id="173" name="矩形 7"/>
            <p:cNvSpPr/>
            <p:nvPr/>
          </p:nvSpPr>
          <p:spPr>
            <a:xfrm>
              <a:off x="885600" y="246240"/>
              <a:ext cx="1673280" cy="76284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任意多边形 16"/>
            <p:cNvSpPr/>
            <p:nvPr/>
          </p:nvSpPr>
          <p:spPr>
            <a:xfrm>
              <a:off x="325440" y="534600"/>
              <a:ext cx="52452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矩形 17"/>
            <p:cNvSpPr/>
            <p:nvPr/>
          </p:nvSpPr>
          <p:spPr>
            <a:xfrm>
              <a:off x="68760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文本框 6151"/>
            <p:cNvSpPr/>
            <p:nvPr/>
          </p:nvSpPr>
          <p:spPr>
            <a:xfrm>
              <a:off x="898920" y="548640"/>
              <a:ext cx="319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分式方程的增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文本框 6152"/>
            <p:cNvSpPr/>
            <p:nvPr/>
          </p:nvSpPr>
          <p:spPr>
            <a:xfrm>
              <a:off x="325440" y="534240"/>
              <a:ext cx="55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be0e3"/>
                  </a:solidFill>
                  <a:latin typeface="Arial"/>
                  <a:ea typeface="微软雅黑"/>
                </a:rPr>
                <a:t>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/>
  <dc:language>en-US</dc:language>
  <cp:lastModifiedBy>User</cp:lastModifiedBy>
  <dcterms:modified xsi:type="dcterms:W3CDTF">2016-08-25T19:11:41Z</dcterms:modified>
  <cp:revision>0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